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3B1-0F6B-4579-AA7B-0CC7C556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D934-4681-4CAF-B44E-08533407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3400" y="593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493C-9E6D-4D60-AEBF-57706E1D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916D-65FC-4BD3-98FC-E5E8136E4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BC19-7BB3-4895-8C53-42BCE6042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B0C0-DB4E-4BEC-8B59-7ED00BDA0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25D3-871B-4521-B621-B839A7081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FB37-7A35-407F-AA75-F853D066B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D5E5-840C-4F03-A565-8C8404602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A24A-93FC-4C68-BF36-07CC5C8A9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6092-9B71-431B-A544-D6EC37B48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94D0-531B-4462-B01A-AA2617F5B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578B-E8A0-4942-B09F-F21CD763A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5494-C666-42CB-B2D9-5D1CBB856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02E8-FD70-4553-9D1D-3E0D00DD2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14B-6BB8-419C-AB9D-148598F3D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modern-home-theatre-nicolas-cages-former-hous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contemporary-small-kitchen-nicolas-cages-former-hous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wooden-laundry-room-interior-nicolas-cages-former-hous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innovative-bathroom-floor-plan-nicolas-cages-former-hous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0" descr="http://www.bergproperties.com/blog/wp-content/uploads/2007/02/spanish.jpg"/>
          <p:cNvPicPr/>
          <p:nvPr/>
        </p:nvPicPr>
        <p:blipFill>
          <a:blip r:embed="rId1"/>
          <a:stretch/>
        </p:blipFill>
        <p:spPr>
          <a:xfrm>
            <a:off x="3886200" y="1828800"/>
            <a:ext cx="4724280" cy="3284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cage’s le chÂt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cest la devant sa maison en Las Va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b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4" descr="http://www-deadline-com.vimg.net/wp-content/uploads/2010/08/nicolas_cage.jpg"/>
          <p:cNvPicPr/>
          <p:nvPr/>
        </p:nvPicPr>
        <p:blipFill>
          <a:blip r:embed="rId2"/>
          <a:stretch/>
        </p:blipFill>
        <p:spPr>
          <a:xfrm>
            <a:off x="7032600" y="5105520"/>
            <a:ext cx="122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Modern Home Theatre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4213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04920" y="3124080"/>
            <a:ext cx="167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t ou il regarde la 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sine. Regarde les lumiere et commente est bril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ontemporary Small Kitchen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676520"/>
            <a:ext cx="5262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le de machine a la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e commente il a quatre machines a laver. Je me demand pourqoi il a besoin de quatre nouvelle machines a la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Wooden Laundry Room Interior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0"/>
            <a:ext cx="49528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 salle de bai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a salle de bains. Elle est b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nnovative Bathroom Floor Plan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rcRect l="0" t="0" r="0" b="14463"/>
          <a:stretch/>
        </p:blipFill>
        <p:spPr>
          <a:xfrm>
            <a:off x="3657600" y="1371600"/>
            <a:ext cx="519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 flipH="1">
            <a:off x="2742480" y="6094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st pisc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2590920" y="1752480"/>
            <a:ext cx="6095880" cy="4667400"/>
            <a:chOff x="2590920" y="1752480"/>
            <a:chExt cx="6095880" cy="4667400"/>
          </a:xfrm>
        </p:grpSpPr>
        <p:pic>
          <p:nvPicPr>
            <p:cNvPr id="65" name="Picture 2" descr="Modern Outdoor Pool Design Nicolas Cage's Former House"/>
            <p:cNvPicPr/>
            <p:nvPr/>
          </p:nvPicPr>
          <p:blipFill>
            <a:blip r:embed="rId1"/>
            <a:stretch/>
          </p:blipFill>
          <p:spPr>
            <a:xfrm>
              <a:off x="2590920" y="1752480"/>
              <a:ext cx="6095880" cy="46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4"/>
            <p:cNvSpPr/>
            <p:nvPr/>
          </p:nvSpPr>
          <p:spPr>
            <a:xfrm>
              <a:off x="3200400" y="1904760"/>
              <a:ext cx="137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terras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Straight Arrow Connector 6"/>
            <p:cNvCxnSpPr/>
            <p:nvPr/>
          </p:nvCxnSpPr>
          <p:spPr>
            <a:xfrm>
              <a:off x="3809880" y="2209320"/>
              <a:ext cx="1753200" cy="686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8" name="TextBox 9"/>
            <p:cNvSpPr/>
            <p:nvPr/>
          </p:nvSpPr>
          <p:spPr>
            <a:xfrm>
              <a:off x="3276720" y="3886560"/>
              <a:ext cx="1371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ud pis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11"/>
            <p:cNvCxnSpPr/>
            <p:nvPr/>
          </p:nvCxnSpPr>
          <p:spPr>
            <a:xfrm>
              <a:off x="4571640" y="4343400"/>
              <a:ext cx="1448280" cy="38160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0" name="TextBox 13"/>
            <p:cNvSpPr/>
            <p:nvPr/>
          </p:nvSpPr>
          <p:spPr>
            <a:xfrm>
              <a:off x="3276720" y="5105880"/>
              <a:ext cx="914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s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-360" y="1905120"/>
            <a:ext cx="259092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est la derierre de la maison. Voyez dessein impressionnant avec la chaud piscin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age"/>
          <p:cNvPicPr/>
          <p:nvPr/>
        </p:nvPicPr>
        <p:blipFill>
          <a:blip r:embed="rId1"/>
          <a:stretch/>
        </p:blipFill>
        <p:spPr>
          <a:xfrm>
            <a:off x="4495680" y="1905120"/>
            <a:ext cx="41450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895480" y="4572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y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1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e foyer. Regarde la belle lumiere et le brillant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legant Master Bedroom Nicolas Cages Former House Luxury Property Las Vegas Up for Sale Nicolas Cage Former House Design "/>
          <p:cNvPicPr/>
          <p:nvPr/>
        </p:nvPicPr>
        <p:blipFill>
          <a:blip r:embed="rId1"/>
          <a:stretch/>
        </p:blipFill>
        <p:spPr>
          <a:xfrm>
            <a:off x="3962520" y="1981080"/>
            <a:ext cx="4800600" cy="346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2209680" y="990720"/>
            <a:ext cx="335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1981080" y="5335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ham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e chambre premiere. il est grand. Problement Nicholas Cage se couche 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4:06:50Z</dcterms:created>
  <dc:creator>TMOIT</dc:creator>
  <dc:description/>
  <dc:language>en-US</dc:language>
  <cp:lastModifiedBy>TMOIT</cp:lastModifiedBy>
  <dcterms:modified xsi:type="dcterms:W3CDTF">2011-11-17T01:10:22Z</dcterms:modified>
  <cp:revision>16</cp:revision>
  <dc:subject/>
  <dc:title>Slide 1</dc:title>
</cp:coreProperties>
</file>